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CD20-14E6-4564-AF00-3930A7886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2CED-588C-4CC1-8AAC-2AFBE4E04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252-93E9-41D0-A650-9A0838345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BB65-79D3-42D1-9EAB-1B3F4B35D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FB7-A8DC-4D2E-93F0-8AFB05570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E25-D0E0-4FF5-9314-2E8641741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CAC-C2E1-4BC5-BA69-6B757A098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C76-2C61-4E3B-968F-0AD5602A9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35B-47F8-4C59-9140-3FA283699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B8E-E4FC-4770-953E-5F9E38EE4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E2DE-E52D-438D-A735-4B9E4D10A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C4B-A03D-48E7-B0FA-3D7AD653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DFE-70D8-46E5-9E06-2C60345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0BD-4DAA-407C-9964-4DED6445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578-6DCB-4E08-BA62-E87BC225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8A8-8244-4A48-A2E7-FC3FFB3E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470-1794-4E3C-9F9C-25F6177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E65-FCA3-4C45-AF87-8319A4B9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7D0-206F-47AD-92C6-E85A9C32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124-2D3F-4443-B301-E941124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5B1-EDAF-4C59-A5F1-05C6CCF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27C-5291-4672-9017-FBBD132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99F-3489-4DFE-8F37-C771C3A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A435-8AA0-4B55-8A06-B6ABA077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Kaizen Central Sch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a Lou C. Liv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m 207 Grade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ne 2011- March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742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Forte"/>
              </a:rPr>
              <a:t>Thank You !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First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plants live and g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nimals grow an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things and their enviro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Second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and how it 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s, machines, and 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n your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07648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5791320" y="3952800"/>
            <a:ext cx="259056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5791320" y="9144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rd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the Earth's sur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planets, and m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 and st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dy's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6672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0477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Build Commun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in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ies and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ave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Communities in Philipp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on the Mo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deas Change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524640" y="3048120"/>
            <a:ext cx="231444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at 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and Wor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in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ave Gover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Government 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zens in A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181480" y="4952880"/>
            <a:ext cx="3276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Language 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l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d aloud accurately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appropriate intonation and expression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onym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ynonym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ctionary, glossary, thesauru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d structure clues t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mea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791320" y="10666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438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nglis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uns and ve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es, suffix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Grading Peri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-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-contra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398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Ma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are, Order, and Round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tract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ph and Analyze Dat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plication Concep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plication Facts and Patter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ision Concep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ision Facts and Patter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019240" cy="19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17524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 Measur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e and Solid Fig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uence, Symmetry, and Transformations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ion 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F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223848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rcRect l="0" t="21334" r="0" b="21787"/>
          <a:stretch/>
        </p:blipFill>
        <p:spPr>
          <a:xfrm>
            <a:off x="4876920" y="3854520"/>
            <a:ext cx="30477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5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5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6:58:58Z</dcterms:created>
  <dc:creator>livera</dc:creator>
  <dc:description/>
  <dc:language>en-US</dc:language>
  <cp:lastModifiedBy>livera</cp:lastModifiedBy>
  <dcterms:modified xsi:type="dcterms:W3CDTF">2011-10-03T02:24:55Z</dcterms:modified>
  <cp:revision>21</cp:revision>
  <dc:subject/>
  <dc:title>Suarez Elementary School</dc:title>
</cp:coreProperties>
</file>